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81B-3EF8-421B-A8CF-927EE9C8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E24-10D2-4474-854A-DC2C65F6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749-C027-4516-97F0-057469EE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7A9-8FC9-4A46-B79B-53027D76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8DE-D172-4F47-B6C2-5CA17A06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80B-DFF2-45F3-A6DC-7779F7ED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70F-3131-45C8-92D3-CB780C68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AB1-D0F9-459F-88C8-C5D43FE3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E26-1ED7-4E65-AE44-F1564ED6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F2B-EEA4-4070-BE24-387EC4C0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785-B298-4239-B63C-EB33658B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7E68-4373-417B-8E78-9DF94067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6352-F833-4E27-9263-F755EFC698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19320" y="762120"/>
            <a:ext cx="6400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Arial Black"/>
              </a:rPr>
              <a:t>Section A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Arial Black"/>
              </a:rPr>
              <a:t>Grammar Focu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143000" y="1495440"/>
            <a:ext cx="67816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lnSpc>
                <a:spcPct val="130000"/>
              </a:lnSpc>
              <a:buClr>
                <a:srgbClr val="9933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3366"/>
                </a:solidFill>
                <a:latin typeface="Times New Roman"/>
              </a:rPr>
              <a:t>they</a:t>
            </a:r>
            <a:r>
              <a:rPr b="1" lang="zh-CN" sz="3400" spc="-1" strike="noStrike">
                <a:solidFill>
                  <a:srgbClr val="993366"/>
                </a:solidFill>
                <a:latin typeface="Times New Roman"/>
              </a:rPr>
              <a:t>意为“他（她、它）们”，是人称代词的主格，用于指代两个或两个以上的人或事物，在句子中作主语。</a:t>
            </a:r>
            <a:r>
              <a:rPr b="1" lang="zh-CN" sz="3400" spc="-1" strike="noStrike">
                <a:solidFill>
                  <a:srgbClr val="993366"/>
                </a:solidFill>
                <a:latin typeface="Times New Roman"/>
              </a:rPr>
              <a:t>They’re</a:t>
            </a:r>
            <a:r>
              <a:rPr b="1" lang="zh-CN" sz="3400" spc="-1" strike="noStrike">
                <a:solidFill>
                  <a:srgbClr val="993366"/>
                </a:solidFill>
                <a:latin typeface="Times New Roman"/>
              </a:rPr>
              <a:t>是</a:t>
            </a:r>
            <a:r>
              <a:rPr b="1" lang="zh-CN" sz="3400" spc="-1" strike="noStrike">
                <a:solidFill>
                  <a:srgbClr val="993366"/>
                </a:solidFill>
                <a:latin typeface="Times New Roman"/>
              </a:rPr>
              <a:t>they are</a:t>
            </a:r>
            <a:r>
              <a:rPr b="1" lang="zh-CN" sz="3400" spc="-1" strike="noStrike">
                <a:solidFill>
                  <a:srgbClr val="993366"/>
                </a:solidFill>
                <a:latin typeface="Times New Roman"/>
              </a:rPr>
              <a:t>的缩写形式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143000" y="380880"/>
            <a:ext cx="7696080" cy="61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3366"/>
                </a:solidFill>
                <a:latin typeface="Times New Roman"/>
              </a:rPr>
              <a:t>例如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3400" spc="-1" strike="noStrike">
                <a:solidFill>
                  <a:srgbClr val="0000cc"/>
                </a:solidFill>
                <a:latin typeface="Times New Roman"/>
              </a:rPr>
              <a:t>Who’re they?   </a:t>
            </a:r>
            <a:br>
              <a:rPr sz="3400"/>
            </a:br>
            <a:r>
              <a:rPr b="1" lang="zh-CN" sz="3400" spc="-1" strike="noStrike">
                <a:solidFill>
                  <a:srgbClr val="0000cc"/>
                </a:solidFill>
                <a:latin typeface="Times New Roman"/>
              </a:rPr>
              <a:t>他们是谁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3400" spc="-1" strike="noStrike">
                <a:solidFill>
                  <a:srgbClr val="0000cc"/>
                </a:solidFill>
                <a:latin typeface="Times New Roman"/>
              </a:rPr>
              <a:t>They’re my cousins.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cc"/>
                </a:solidFill>
                <a:latin typeface="Times New Roman"/>
              </a:rPr>
              <a:t>他们是我的表弟。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99"/>
                </a:solidFill>
                <a:latin typeface="Times New Roman"/>
              </a:rPr>
              <a:t>— </a:t>
            </a:r>
            <a:r>
              <a:rPr b="1" lang="zh-CN" sz="3400" spc="-1" strike="noStrike">
                <a:solidFill>
                  <a:srgbClr val="00cc99"/>
                </a:solidFill>
                <a:latin typeface="Times New Roman"/>
              </a:rPr>
              <a:t>Who’re Linda and Mary?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zh-CN" sz="3400" spc="-1" strike="noStrike">
                <a:solidFill>
                  <a:srgbClr val="00cc99"/>
                </a:solidFill>
                <a:latin typeface="Times New Roman"/>
              </a:rPr>
              <a:t>琳达和玛丽是谁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99"/>
                </a:solidFill>
                <a:latin typeface="Times New Roman"/>
              </a:rPr>
              <a:t>— </a:t>
            </a:r>
            <a:r>
              <a:rPr b="1" lang="zh-CN" sz="3400" spc="-1" strike="noStrike">
                <a:solidFill>
                  <a:srgbClr val="00cc99"/>
                </a:solidFill>
                <a:latin typeface="Times New Roman"/>
              </a:rPr>
              <a:t>They’re my sister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zh-CN" sz="3400" spc="-1" strike="noStrike">
                <a:solidFill>
                  <a:srgbClr val="00cc99"/>
                </a:solidFill>
                <a:latin typeface="Times New Roman"/>
              </a:rPr>
              <a:t>她们是我的妹妹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that’s 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是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that is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的缩写形式。当人称代词、指示代词及疑问词与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be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动词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am, is, are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等连用时，为了简便常用缩写的形式。大家试着写出下列缩写形式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who is = ________     who are = 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they are = _______    I am = 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she is = ________       he is = 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it is = ________          what is = ________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666880" y="3505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6858000" y="3535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o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971800" y="4221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y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400800" y="4221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’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514600" y="4876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6248520" y="49068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133720" y="5592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553080" y="5562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57200" y="3387600"/>
            <a:ext cx="84582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A: That ___ my family. That’s my moth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B: _____ h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A: ____ my fath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B: Who’s ____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981080" y="3530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914400" y="4216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066680" y="4871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362320" y="55576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533520" y="1905120"/>
            <a:ext cx="815328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3a. Complete the conversation and practice it with your partn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3809880" y="838080"/>
            <a:ext cx="1886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Arial Narrow"/>
              </a:rPr>
              <a:t>Pairwork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Arial Narrow"/>
              <a:ea typeface="Arial Narrow"/>
            </a:endParaRPr>
          </a:p>
        </p:txBody>
      </p:sp>
    </p:spTree>
  </p:cSld>
  <p:transition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600200" y="1676520"/>
            <a:ext cx="61722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: She’s ___ sis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: And ________ th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: ______ my grandparen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429000" y="1851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3276720" y="2590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o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133720" y="32227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hey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581280"/>
            <a:ext cx="1371600" cy="2819520"/>
          </a:xfrm>
          <a:prstGeom prst="rect">
            <a:avLst/>
          </a:prstGeom>
          <a:noFill/>
          <a:ln w="19080">
            <a:solidFill>
              <a:srgbClr val="cc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3366"/>
                </a:solidFill>
                <a:latin typeface="Times New Roman"/>
              </a:rPr>
              <a:t>th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3366"/>
                </a:solidFill>
                <a:latin typeface="Times New Roman"/>
              </a:rPr>
              <a:t>th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3366"/>
                </a:solidFill>
                <a:latin typeface="Times New Roman"/>
              </a:rPr>
              <a:t>the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3366"/>
                </a:solidFill>
                <a:latin typeface="Times New Roman"/>
              </a:rPr>
              <a:t>tho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0" y="1143000"/>
            <a:ext cx="52578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b. Look at the picture. Make sentences with the words in the three box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590920" y="4343400"/>
            <a:ext cx="1904760" cy="914400"/>
          </a:xfrm>
          <a:prstGeom prst="rect">
            <a:avLst/>
          </a:prstGeom>
          <a:noFill/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my you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800600" y="3429000"/>
            <a:ext cx="4191120" cy="3276720"/>
          </a:xfrm>
          <a:prstGeom prst="rect">
            <a:avLst/>
          </a:prstGeom>
          <a:noFill/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ther  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randfa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rand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arents grand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rother   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3505320" y="7632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Practice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112" name="Picture 7" descr="9-1"/>
          <p:cNvPicPr/>
          <p:nvPr/>
        </p:nvPicPr>
        <p:blipFill>
          <a:blip r:embed="rId1"/>
          <a:stretch/>
        </p:blipFill>
        <p:spPr>
          <a:xfrm>
            <a:off x="5638680" y="685800"/>
            <a:ext cx="2895840" cy="2614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04920" y="175248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This is my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04920" y="243828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This is my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04920" y="41911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That’s my grand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04920" y="480060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Those are my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04920" y="3048120"/>
            <a:ext cx="342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That is my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04920" y="3657600"/>
            <a:ext cx="342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That’s my m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9-1"/>
          <p:cNvPicPr/>
          <p:nvPr/>
        </p:nvPicPr>
        <p:blipFill>
          <a:blip r:embed="rId1"/>
          <a:stretch/>
        </p:blipFill>
        <p:spPr>
          <a:xfrm>
            <a:off x="4724280" y="1905120"/>
            <a:ext cx="3962520" cy="3578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286992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This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That’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These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Those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2971800" y="2870280"/>
            <a:ext cx="5943600" cy="2539800"/>
            <a:chOff x="2971800" y="2870280"/>
            <a:chExt cx="5943600" cy="2539800"/>
          </a:xfrm>
        </p:grpSpPr>
        <p:pic>
          <p:nvPicPr>
            <p:cNvPr id="122" name="Picture 4" descr="200771225136979_2"/>
            <p:cNvPicPr/>
            <p:nvPr/>
          </p:nvPicPr>
          <p:blipFill>
            <a:blip r:embed="rId1"/>
            <a:stretch/>
          </p:blipFill>
          <p:spPr>
            <a:xfrm>
              <a:off x="2971800" y="2870280"/>
              <a:ext cx="5943600" cy="253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5" descr="a0076"/>
            <p:cNvPicPr/>
            <p:nvPr/>
          </p:nvPicPr>
          <p:blipFill>
            <a:blip r:embed="rId2"/>
            <a:stretch/>
          </p:blipFill>
          <p:spPr>
            <a:xfrm>
              <a:off x="3505320" y="3098520"/>
              <a:ext cx="5029200" cy="201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Rectangle 13"/>
          <p:cNvSpPr/>
          <p:nvPr/>
        </p:nvSpPr>
        <p:spPr>
          <a:xfrm>
            <a:off x="685800" y="1936800"/>
            <a:ext cx="7620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用下列句型介绍一下你的一张家庭照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838080" y="685800"/>
            <a:ext cx="2590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Book Antiqua"/>
              </a:rPr>
              <a:t>Homework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p:transition>
    <p:split dir="out" orient="vert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09480" y="911160"/>
            <a:ext cx="80773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二、句型转换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1. That is my brother. 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变为复数句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 ___ my brother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2. It is a nice picture.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变为复数句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 ___ nice pictur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3. Are these your sisters?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变为单数句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 ____ your siste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90720" y="2362320"/>
            <a:ext cx="3047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hose  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90720" y="3733920"/>
            <a:ext cx="3047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hey 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5105520"/>
            <a:ext cx="2438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Is   th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62120" y="695160"/>
            <a:ext cx="77724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4. Are those your friends?  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（做肯定及否定回答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Yes, ____ ____.  No, ____ 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5. He’s 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Times New Roman"/>
              </a:rPr>
              <a:t>my father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（对划线部分提问）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 he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6. They’re 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Times New Roman"/>
              </a:rPr>
              <a:t>my grandparents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（对划线部分提问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 they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133720" y="2197080"/>
            <a:ext cx="3047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hey  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952880" y="2197080"/>
            <a:ext cx="3048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hey  aren’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295280" y="3492360"/>
            <a:ext cx="1752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Who’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19320" y="5549760"/>
            <a:ext cx="175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Who’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8110541_1283941373_992[1]"/>
          <p:cNvPicPr/>
          <p:nvPr/>
        </p:nvPicPr>
        <p:blipFill>
          <a:blip r:embed="rId1"/>
          <a:stretch/>
        </p:blipFill>
        <p:spPr>
          <a:xfrm>
            <a:off x="4191120" y="839880"/>
            <a:ext cx="2438280" cy="182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152280" y="7621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his i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Xia Y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at’s his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52280" y="193500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s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’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4681342_155927016332_2[1]"/>
          <p:cNvPicPr/>
          <p:nvPr/>
        </p:nvPicPr>
        <p:blipFill>
          <a:blip r:embed="rId2"/>
          <a:srcRect l="1514" t="7584" r="0" b="5603"/>
          <a:stretch/>
        </p:blipFill>
        <p:spPr>
          <a:xfrm>
            <a:off x="4191120" y="4191120"/>
            <a:ext cx="4952880" cy="236196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6"/>
          <p:cNvGrpSpPr/>
          <p:nvPr/>
        </p:nvGrpSpPr>
        <p:grpSpPr>
          <a:xfrm>
            <a:off x="6934320" y="3352680"/>
            <a:ext cx="761760" cy="762120"/>
            <a:chOff x="6934320" y="3352680"/>
            <a:chExt cx="761760" cy="762120"/>
          </a:xfrm>
        </p:grpSpPr>
        <p:sp>
          <p:nvSpPr>
            <p:cNvPr id="47" name="AutoShape 7"/>
            <p:cNvSpPr/>
            <p:nvPr/>
          </p:nvSpPr>
          <p:spPr>
            <a:xfrm>
              <a:off x="6934320" y="3352680"/>
              <a:ext cx="761760" cy="762120"/>
            </a:xfrm>
            <a:prstGeom prst="wedgeRectCallout">
              <a:avLst>
                <a:gd name="adj1" fmla="val 14583"/>
                <a:gd name="adj2" fmla="val 102291"/>
              </a:avLst>
            </a:prstGeom>
            <a:noFill/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WordArt 8"/>
            <p:cNvSpPr txBox="1"/>
            <p:nvPr/>
          </p:nvSpPr>
          <p:spPr>
            <a:xfrm>
              <a:off x="7086240" y="3504960"/>
              <a:ext cx="4568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729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>
                        <a:alpha val="79000"/>
                      </a:srgbClr>
                    </a:outerShdw>
                  </a:effectLst>
                  <a:latin typeface="PMingLiU"/>
                </a:rPr>
                <a:t>?</a:t>
              </a:r>
              <a:endParaRPr b="1" lang="en-US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PMingLiU"/>
                <a:ea typeface="PMingLiU"/>
              </a:endParaRPr>
            </a:p>
          </p:txBody>
        </p:sp>
      </p:grpSp>
      <p:grpSp>
        <p:nvGrpSpPr>
          <p:cNvPr id="49" name="Group 9"/>
          <p:cNvGrpSpPr/>
          <p:nvPr/>
        </p:nvGrpSpPr>
        <p:grpSpPr>
          <a:xfrm>
            <a:off x="5410080" y="3657600"/>
            <a:ext cx="762120" cy="762120"/>
            <a:chOff x="5410080" y="3657600"/>
            <a:chExt cx="762120" cy="762120"/>
          </a:xfrm>
        </p:grpSpPr>
        <p:sp>
          <p:nvSpPr>
            <p:cNvPr id="50" name="AutoShape 10"/>
            <p:cNvSpPr/>
            <p:nvPr/>
          </p:nvSpPr>
          <p:spPr>
            <a:xfrm>
              <a:off x="5410080" y="3657600"/>
              <a:ext cx="762120" cy="762120"/>
            </a:xfrm>
            <a:prstGeom prst="wedgeRectCallout">
              <a:avLst>
                <a:gd name="adj1" fmla="val 14583"/>
                <a:gd name="adj2" fmla="val 102291"/>
              </a:avLst>
            </a:prstGeom>
            <a:noFill/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WordArt 11"/>
            <p:cNvSpPr txBox="1"/>
            <p:nvPr/>
          </p:nvSpPr>
          <p:spPr>
            <a:xfrm>
              <a:off x="5562360" y="380988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729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>
                        <a:alpha val="79000"/>
                      </a:srgbClr>
                    </a:outerShdw>
                  </a:effectLst>
                  <a:latin typeface="PMingLiU"/>
                </a:rPr>
                <a:t>?</a:t>
              </a:r>
              <a:endParaRPr b="1" lang="en-US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PMingLiU"/>
                <a:ea typeface="PMingLiU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8001000" y="3429000"/>
            <a:ext cx="762120" cy="762120"/>
            <a:chOff x="8001000" y="3429000"/>
            <a:chExt cx="762120" cy="762120"/>
          </a:xfrm>
        </p:grpSpPr>
        <p:sp>
          <p:nvSpPr>
            <p:cNvPr id="53" name="AutoShape 13"/>
            <p:cNvSpPr/>
            <p:nvPr/>
          </p:nvSpPr>
          <p:spPr>
            <a:xfrm>
              <a:off x="8001000" y="3429000"/>
              <a:ext cx="762120" cy="762120"/>
            </a:xfrm>
            <a:prstGeom prst="wedgeRectCallout">
              <a:avLst>
                <a:gd name="adj1" fmla="val 14583"/>
                <a:gd name="adj2" fmla="val 102291"/>
              </a:avLst>
            </a:prstGeom>
            <a:noFill/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WordArt 14"/>
            <p:cNvSpPr txBox="1"/>
            <p:nvPr/>
          </p:nvSpPr>
          <p:spPr>
            <a:xfrm>
              <a:off x="8153280" y="358128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729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>
                        <a:alpha val="79000"/>
                      </a:srgbClr>
                    </a:outerShdw>
                  </a:effectLst>
                  <a:latin typeface="PMingLiU"/>
                </a:rPr>
                <a:t>?</a:t>
              </a:r>
              <a:endParaRPr b="1" lang="en-US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PMingLiU"/>
                <a:ea typeface="PMingLiU"/>
              </a:endParaRPr>
            </a:p>
          </p:txBody>
        </p:sp>
      </p:grpSp>
      <p:grpSp>
        <p:nvGrpSpPr>
          <p:cNvPr id="55" name="Group 15"/>
          <p:cNvGrpSpPr/>
          <p:nvPr/>
        </p:nvGrpSpPr>
        <p:grpSpPr>
          <a:xfrm>
            <a:off x="4495680" y="3459240"/>
            <a:ext cx="762120" cy="761760"/>
            <a:chOff x="4495680" y="3459240"/>
            <a:chExt cx="762120" cy="761760"/>
          </a:xfrm>
        </p:grpSpPr>
        <p:sp>
          <p:nvSpPr>
            <p:cNvPr id="56" name="AutoShape 16"/>
            <p:cNvSpPr/>
            <p:nvPr/>
          </p:nvSpPr>
          <p:spPr>
            <a:xfrm>
              <a:off x="4495680" y="3459240"/>
              <a:ext cx="762120" cy="761760"/>
            </a:xfrm>
            <a:prstGeom prst="wedgeRectCallout">
              <a:avLst>
                <a:gd name="adj1" fmla="val 14583"/>
                <a:gd name="adj2" fmla="val 102291"/>
              </a:avLst>
            </a:prstGeom>
            <a:noFill/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WordArt 17"/>
            <p:cNvSpPr txBox="1"/>
            <p:nvPr/>
          </p:nvSpPr>
          <p:spPr>
            <a:xfrm>
              <a:off x="4647960" y="3611160"/>
              <a:ext cx="45720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729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>
                        <a:alpha val="79000"/>
                      </a:srgbClr>
                    </a:outerShdw>
                  </a:effectLst>
                  <a:latin typeface="PMingLiU"/>
                </a:rPr>
                <a:t>?</a:t>
              </a:r>
              <a:endParaRPr b="1" lang="en-US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PMingLiU"/>
                <a:ea typeface="PMingLiU"/>
              </a:endParaRPr>
            </a:p>
          </p:txBody>
        </p:sp>
      </p:grpSp>
      <p:sp>
        <p:nvSpPr>
          <p:cNvPr id="58" name="Text Box 13"/>
          <p:cNvSpPr/>
          <p:nvPr/>
        </p:nvSpPr>
        <p:spPr>
          <a:xfrm>
            <a:off x="1752480" y="2392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r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52280" y="307800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s s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e’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52280" y="422100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s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’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52280" y="544032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s s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e’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981080" y="3535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981080" y="59738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828800" y="4678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295280" y="2743200"/>
            <a:ext cx="746784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A: This ______ my family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B:  Who’s h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A:  ____ my father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B:  ______ she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A:  _____ my mother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295280" y="1228680"/>
            <a:ext cx="62485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cc"/>
                </a:solidFill>
                <a:latin typeface="Times New Roman"/>
              </a:rPr>
              <a:t>are, they, are, is, thanks, who’s, is, he’s, she’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078800" y="609480"/>
            <a:ext cx="5893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三、从方括中选择恰当的单词补全对话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124080" y="289548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cc"/>
                </a:solidFill>
                <a:latin typeface="Times New Roman"/>
              </a:rPr>
              <a:t>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981080" y="4191120"/>
            <a:ext cx="1143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cc"/>
                </a:solidFill>
                <a:latin typeface="Times New Roman"/>
              </a:rPr>
              <a:t>He’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981080" y="4876920"/>
            <a:ext cx="1600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cc"/>
                </a:solidFill>
                <a:latin typeface="Times New Roman"/>
              </a:rPr>
              <a:t>Who’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981080" y="5562720"/>
            <a:ext cx="1371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cc"/>
                </a:solidFill>
                <a:latin typeface="Times New Roman"/>
              </a:rPr>
              <a:t>She’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990720" y="1371600"/>
            <a:ext cx="7467480" cy="41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B: _______ those your grandparent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A:  Yes, ____ ___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B:  __ that your brothe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A:  Yes. He’s my brother, Dale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B:  Oh, I see. Well, have a good day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A: ________!  You, too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752480" y="144792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590920" y="2209680"/>
            <a:ext cx="2590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hey 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600200" y="281952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600200" y="4876920"/>
            <a:ext cx="1828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han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66800" y="2124000"/>
            <a:ext cx="7315200" cy="41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这是我的朋友简。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 ______ my friend Jane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那是我的爷爷。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  my grandfather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这是我的兄弟们。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 ____ my brothe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89040" y="1440000"/>
            <a:ext cx="35031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Fill in the blanks.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2900520" y="457200"/>
            <a:ext cx="33242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Book Antiqua"/>
              </a:rPr>
              <a:t>Grammar Focu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447920" y="30481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is    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219320" y="4343400"/>
            <a:ext cx="1447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hat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1295280" y="571500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hese  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371600" y="771480"/>
            <a:ext cx="73152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那是我的父母亲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 _____ my paren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她是谁？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 she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她是我的妹妹。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She’s my ______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他是谁？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 he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他是我的弟弟。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 my brother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828800" y="160020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hose   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3581280" y="2362320"/>
            <a:ext cx="1447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o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429000" y="365760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3581280" y="434340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o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828800" y="571500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e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143000" y="1482840"/>
            <a:ext cx="7010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他们是谁？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Who ____ they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他们是我的祖父母。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 my grandparen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438280" y="232092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981080" y="3692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hey’r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28600" y="1889280"/>
            <a:ext cx="868680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these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是指示代词，意为“这些”，是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this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的复数形式。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These are… 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句型意为“这（些）是……”，用来介绍离说话人较近的两者或两者以上的人或物。例如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These are his parents.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这是他的父母亲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hese are blue skirts.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这是些蓝色的衬衫。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3"/>
          <p:cNvSpPr txBox="1"/>
          <p:nvPr/>
        </p:nvSpPr>
        <p:spPr>
          <a:xfrm>
            <a:off x="3276720" y="530280"/>
            <a:ext cx="222876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Arial Narrow"/>
              </a:rPr>
              <a:t>Explaination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Arial Narrow"/>
              <a:ea typeface="Arial Narrow"/>
            </a:endParaRPr>
          </a:p>
        </p:txBody>
      </p:sp>
    </p:spTree>
  </p:cSld>
  <p:transition>
    <p:wipe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914400" y="685800"/>
            <a:ext cx="7315200" cy="41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Are these/those…? 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是一般疑问句，意为“这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/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那（些）是……吗？”，用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Yes, they are. 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或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No, they aren't.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来回答。例如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99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cc99"/>
                </a:solidFill>
                <a:latin typeface="Times New Roman"/>
              </a:rPr>
              <a:t>Are these your friends? </a:t>
            </a:r>
            <a:br>
              <a:rPr sz="3400"/>
            </a:br>
            <a:r>
              <a:rPr b="1" lang="zh-CN" sz="3400" spc="-1" strike="noStrike">
                <a:solidFill>
                  <a:srgbClr val="00cc99"/>
                </a:solidFill>
                <a:latin typeface="Times New Roman"/>
              </a:rPr>
              <a:t>这是你的朋友们吗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99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cc99"/>
                </a:solidFill>
                <a:latin typeface="Times New Roman"/>
              </a:rPr>
              <a:t>Yes, they are.</a:t>
            </a:r>
            <a:r>
              <a:rPr b="1" lang="zh-CN" sz="3400" spc="-1" strike="noStrike">
                <a:solidFill>
                  <a:srgbClr val="00cc99"/>
                </a:solidFill>
                <a:latin typeface="Times New Roman"/>
              </a:rPr>
              <a:t>是的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838080" y="685800"/>
            <a:ext cx="800100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who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意为“谁；什么人”，</a:t>
            </a:r>
            <a:r>
              <a:rPr b="1" lang="zh-CN" sz="3400" spc="-1" strike="noStrike">
                <a:solidFill>
                  <a:srgbClr val="3399ff"/>
                </a:solidFill>
                <a:latin typeface="Times New Roman"/>
              </a:rPr>
              <a:t>是一个疑问代词，用于对人的身份进行询问。</a:t>
            </a:r>
            <a:r>
              <a:rPr b="1" lang="zh-CN" sz="3400" spc="-1" strike="noStrike">
                <a:solidFill>
                  <a:srgbClr val="3399ff"/>
                </a:solidFill>
                <a:latin typeface="Times New Roman"/>
              </a:rPr>
              <a:t>who's</a:t>
            </a:r>
            <a:r>
              <a:rPr b="1" lang="zh-CN" sz="3400" spc="-1" strike="noStrike">
                <a:solidFill>
                  <a:srgbClr val="3399ff"/>
                </a:solidFill>
                <a:latin typeface="Times New Roman"/>
              </a:rPr>
              <a:t>是</a:t>
            </a:r>
            <a:r>
              <a:rPr b="1" lang="zh-CN" sz="3400" spc="-1" strike="noStrike">
                <a:solidFill>
                  <a:srgbClr val="3399ff"/>
                </a:solidFill>
                <a:latin typeface="Times New Roman"/>
              </a:rPr>
              <a:t>who is</a:t>
            </a:r>
            <a:r>
              <a:rPr b="1" lang="zh-CN" sz="3400" spc="-1" strike="noStrike">
                <a:solidFill>
                  <a:srgbClr val="3399ff"/>
                </a:solidFill>
                <a:latin typeface="Times New Roman"/>
              </a:rPr>
              <a:t>的缩写形式，用于对单个人进行询问，回答时常用</a:t>
            </a:r>
            <a:r>
              <a:rPr b="1" lang="zh-CN" sz="3400" spc="-1" strike="noStrike">
                <a:solidFill>
                  <a:srgbClr val="3399ff"/>
                </a:solidFill>
                <a:latin typeface="Times New Roman"/>
              </a:rPr>
              <a:t>He's/She's/It's…</a:t>
            </a:r>
            <a:r>
              <a:rPr b="1" lang="zh-CN" sz="3400" spc="-1" strike="noStrike">
                <a:solidFill>
                  <a:srgbClr val="3399ff"/>
                </a:solidFill>
                <a:latin typeface="Times New Roman"/>
              </a:rPr>
              <a:t>。</a:t>
            </a:r>
            <a:r>
              <a:rPr b="1" lang="zh-CN" sz="3400" spc="-1" strike="noStrike">
                <a:solidFill>
                  <a:srgbClr val="3399ff"/>
                </a:solidFill>
                <a:latin typeface="Times New Roman"/>
              </a:rPr>
              <a:t>who’re (=who are)</a:t>
            </a:r>
            <a:r>
              <a:rPr b="1" lang="zh-CN" sz="3400" spc="-1" strike="noStrike">
                <a:solidFill>
                  <a:srgbClr val="3399ff"/>
                </a:solidFill>
                <a:latin typeface="Times New Roman"/>
              </a:rPr>
              <a:t>用于对两个或两个以上的人进行询问，回答时常用</a:t>
            </a:r>
            <a:r>
              <a:rPr b="1" lang="zh-CN" sz="3400" spc="-1" strike="noStrike">
                <a:solidFill>
                  <a:srgbClr val="3399ff"/>
                </a:solidFill>
                <a:latin typeface="Times New Roman"/>
              </a:rPr>
              <a:t>They’re (=They are)… </a:t>
            </a:r>
            <a:r>
              <a:rPr b="1" lang="zh-CN" sz="3400" spc="-1" strike="noStrike">
                <a:solidFill>
                  <a:srgbClr val="3399ff"/>
                </a:solidFill>
                <a:latin typeface="Times New Roman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219320" y="1295280"/>
            <a:ext cx="7010280" cy="38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99ff"/>
                </a:solidFill>
                <a:latin typeface="Times New Roman"/>
              </a:rPr>
              <a:t>例如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—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Who is that boy? 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那名男孩是谁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—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He’s my cousin. </a:t>
            </a:r>
            <a:r>
              <a:rPr b="1" lang="zh-CN" sz="3400" spc="-1" strike="noStrike">
                <a:solidFill>
                  <a:srgbClr val="cc00ff"/>
                </a:solidFill>
                <a:latin typeface="Times New Roman"/>
              </a:rPr>
              <a:t>他是我的堂弟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400" spc="-1" strike="noStrike">
                <a:solidFill>
                  <a:srgbClr val="993366"/>
                </a:solidFill>
                <a:latin typeface="Times New Roman"/>
              </a:rPr>
              <a:t>Who are they? </a:t>
            </a:r>
            <a:r>
              <a:rPr b="1" lang="zh-CN" sz="3400" spc="-1" strike="noStrike">
                <a:solidFill>
                  <a:srgbClr val="993366"/>
                </a:solidFill>
                <a:latin typeface="Times New Roman"/>
              </a:rPr>
              <a:t>他们是谁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3366"/>
                </a:solidFill>
                <a:latin typeface="Times New Roman"/>
              </a:rPr>
              <a:t>—</a:t>
            </a:r>
            <a:r>
              <a:rPr b="1" lang="zh-CN" sz="3400" spc="-1" strike="noStrike">
                <a:solidFill>
                  <a:srgbClr val="993366"/>
                </a:solidFill>
                <a:latin typeface="Times New Roman"/>
              </a:rPr>
              <a:t>They’re my brother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3366"/>
                </a:solidFill>
                <a:latin typeface="Times New Roman"/>
              </a:rPr>
              <a:t>   </a:t>
            </a:r>
            <a:r>
              <a:rPr b="1" lang="zh-CN" sz="3400" spc="-1" strike="noStrike">
                <a:solidFill>
                  <a:srgbClr val="993366"/>
                </a:solidFill>
                <a:latin typeface="Times New Roman"/>
              </a:rPr>
              <a:t>他们是我的弟弟们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7T08:31:34Z</dcterms:created>
  <dc:creator>xp</dc:creator>
  <dc:description/>
  <dc:language>en-US</dc:language>
  <cp:lastModifiedBy>xp</cp:lastModifiedBy>
  <dcterms:modified xsi:type="dcterms:W3CDTF">2017-09-27T08:32:51Z</dcterms:modified>
  <cp:revision>2</cp:revision>
  <dc:subject/>
  <dc:title>幻灯片 1</dc:title>
</cp:coreProperties>
</file>